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746C-B106-4E5D-AB0A-A6C5B448B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36A8-F1BC-4F1D-88B9-2AD4B4829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7669-912A-4917-8882-A949DCF9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E79C-879D-44AF-8088-FE132BE5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CCB1-493D-49E9-B4A3-6E779DB5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C659-E984-4DD1-9202-35BDC292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80C0-C1FD-4CD7-A7D1-D8A6F6F4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2EA9-5466-4D77-B65B-267D7DB1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DEBA-8449-4B95-B973-CC788219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D8C1-6A20-480C-9A56-60EA7DD8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5956-4DC2-48F5-A298-103695CA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17DD-FA8F-4ADE-9F4E-371AAA58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E6B1-6880-4CE5-BAAB-C872ACFF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80A3-5BD3-4F8F-A083-BC2876C8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28B2-E9B2-40FB-BD59-B8CD30EF7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harlene Lucer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Sharlene Luce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Sharlene Lucer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Sharlene Lucer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Sharlene Lucer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36828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              232 amigo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ar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22320" y="3505320"/>
            <a:ext cx="20350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Sharlene. Yo vivo en Nueva York. Yo tengo catorce años. Yo tengo 1  hermano.Yo soy amable y energic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10552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lod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0199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tin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371600" y="510552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vi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Mar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Vamos a ir a en la tarde, Melody. Si alguien quiere a ir a con nosotros, pueden 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r a Baskin Robbins en Floral Park, Nueva York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elod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Sharlene! Yo voy voy contigo. ¿Cuando vamos a ir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Decembre 7, de 2012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Sharle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s!…. Quien quiere comprar helado conmigo 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2hour ago.     Decembre 7, de 20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Okay…Gracias! Gabriela y yo vamos en 3 horas porqué estamos lejos de Floral Par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9" descr="Photo on 2011-10-21 at 13.53 #2.jpg"/>
          <p:cNvPicPr/>
          <p:nvPr/>
        </p:nvPicPr>
        <p:blipFill>
          <a:blip r:embed="rId1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2" descr="Photo on 2011-10-21 at 13.46.jpg"/>
          <p:cNvPicPr/>
          <p:nvPr/>
        </p:nvPicPr>
        <p:blipFill>
          <a:blip r:embed="rId2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6"/>
          <p:cNvSpPr/>
          <p:nvPr/>
        </p:nvSpPr>
        <p:spPr>
          <a:xfrm>
            <a:off x="2819520" y="19051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¡Buenas Noches amigas! ¡Ya voy a dormir!!!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480966_10151124980887477_1105329441_n.jpg"/>
          <p:cNvPicPr/>
          <p:nvPr/>
        </p:nvPicPr>
        <p:blipFill>
          <a:blip r:embed="rId3"/>
          <a:stretch/>
        </p:blipFill>
        <p:spPr>
          <a:xfrm>
            <a:off x="152280" y="83808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9" descr="480966_10151124980887477_1105329441_n.jpg"/>
          <p:cNvPicPr/>
          <p:nvPr/>
        </p:nvPicPr>
        <p:blipFill>
          <a:blip r:embed="rId4"/>
          <a:stretch/>
        </p:blipFill>
        <p:spPr>
          <a:xfrm>
            <a:off x="2133720" y="24382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270100_128306570660437_2020124721_n.jpg"/>
          <p:cNvPicPr/>
          <p:nvPr/>
        </p:nvPicPr>
        <p:blipFill>
          <a:blip r:embed="rId5"/>
          <a:stretch/>
        </p:blipFill>
        <p:spPr>
          <a:xfrm>
            <a:off x="2133720" y="3124080"/>
            <a:ext cx="533160" cy="584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2344788_f260.jpg"/>
          <p:cNvPicPr/>
          <p:nvPr/>
        </p:nvPicPr>
        <p:blipFill>
          <a:blip r:embed="rId6"/>
          <a:stretch/>
        </p:blipFill>
        <p:spPr>
          <a:xfrm>
            <a:off x="2057400" y="3733920"/>
            <a:ext cx="609480" cy="633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4" descr="2344788_f260.jpg"/>
          <p:cNvPicPr/>
          <p:nvPr/>
        </p:nvPicPr>
        <p:blipFill>
          <a:blip r:embed="rId7"/>
          <a:stretch/>
        </p:blipFill>
        <p:spPr>
          <a:xfrm>
            <a:off x="152280" y="4495680"/>
            <a:ext cx="609840" cy="633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6" descr="270100_128306570660437_2020124721_n.jpg"/>
          <p:cNvPicPr/>
          <p:nvPr/>
        </p:nvPicPr>
        <p:blipFill>
          <a:blip r:embed="rId8"/>
          <a:stretch/>
        </p:blipFill>
        <p:spPr>
          <a:xfrm>
            <a:off x="762120" y="4495680"/>
            <a:ext cx="533160" cy="584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558763_451286248263457_1770639403_n.jpg"/>
          <p:cNvPicPr/>
          <p:nvPr/>
        </p:nvPicPr>
        <p:blipFill>
          <a:blip r:embed="rId9"/>
          <a:stretch/>
        </p:blipFill>
        <p:spPr>
          <a:xfrm>
            <a:off x="1373040" y="4572000"/>
            <a:ext cx="532080" cy="533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406796_224187064380476_1486548717_n.jpg"/>
          <p:cNvPicPr/>
          <p:nvPr/>
        </p:nvPicPr>
        <p:blipFill>
          <a:blip r:embed="rId10"/>
          <a:stretch/>
        </p:blipFill>
        <p:spPr>
          <a:xfrm>
            <a:off x="228600" y="5562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523647_271748989573753_1942422869_n.jpg"/>
          <p:cNvPicPr/>
          <p:nvPr/>
        </p:nvPicPr>
        <p:blipFill>
          <a:blip r:embed="rId11"/>
          <a:stretch/>
        </p:blipFill>
        <p:spPr>
          <a:xfrm>
            <a:off x="990720" y="5486400"/>
            <a:ext cx="812520" cy="6094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8"/>
          <p:cNvSpPr/>
          <p:nvPr/>
        </p:nvSpPr>
        <p:spPr>
          <a:xfrm>
            <a:off x="1053720" y="6095880"/>
            <a:ext cx="646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Gabriel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558763_451286248263457_1770639403_n.jpg"/>
          <p:cNvPicPr/>
          <p:nvPr/>
        </p:nvPicPr>
        <p:blipFill>
          <a:blip r:embed="rId12"/>
          <a:stretch/>
        </p:blipFill>
        <p:spPr>
          <a:xfrm>
            <a:off x="2133720" y="4419720"/>
            <a:ext cx="5317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8:34:28Z</dcterms:created>
  <dc:creator>FriscoISD</dc:creator>
  <dc:description/>
  <dc:language>en-US</dc:language>
  <cp:lastModifiedBy>NYCDOE</cp:lastModifiedBy>
  <dcterms:modified xsi:type="dcterms:W3CDTF">2012-12-07T19:19:41Z</dcterms:modified>
  <cp:revision>108</cp:revision>
  <dc:subject/>
  <dc:title>Profile</dc:title>
</cp:coreProperties>
</file>